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21ED-532E-4FA8-A969-07086F09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31B-38D4-47EE-80DB-C5A8033A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BD08-EC4B-486C-BD73-5598202B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499B-38C3-469A-B91E-6FB0B672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E93-3F1A-4F2B-AA4F-BA93E6CB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EB3C-EC95-4583-A88A-1BCC71EB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4F39-2C36-4B08-B3AE-7F9025AF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2074-7FEE-4397-96AC-97DE6FD2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B4A-A519-4849-9AFA-735E48BC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6533-4E63-4198-9C48-3C9872D5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F58B-ACFA-4FAB-8752-1B6A0A6C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EE7C-315C-47A8-8059-915348F4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1734-66F3-4078-B85E-778DD3A28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440" y="781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39800" y="1980000"/>
            <a:ext cx="6582240" cy="2103480"/>
            <a:chOff x="1639800" y="1980000"/>
            <a:chExt cx="6582240" cy="2103480"/>
          </a:xfrm>
        </p:grpSpPr>
        <p:grpSp>
          <p:nvGrpSpPr>
            <p:cNvPr id="43" name=""/>
            <p:cNvGrpSpPr/>
            <p:nvPr/>
          </p:nvGrpSpPr>
          <p:grpSpPr>
            <a:xfrm>
              <a:off x="1639800" y="2359080"/>
              <a:ext cx="1783440" cy="1724400"/>
              <a:chOff x="1639800" y="2359080"/>
              <a:chExt cx="1783440" cy="172440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1684440" y="2359080"/>
                <a:ext cx="1738800" cy="1724400"/>
                <a:chOff x="1684440" y="2359080"/>
                <a:chExt cx="1738800" cy="17244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1684440" y="3219840"/>
                  <a:ext cx="869040" cy="863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553480" y="3219840"/>
                  <a:ext cx="869760" cy="863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1684440" y="2359080"/>
                  <a:ext cx="869040" cy="86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553480" y="2359080"/>
                  <a:ext cx="869760" cy="86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 flipV="1">
                <a:off x="2081160" y="2806920"/>
                <a:ext cx="891720" cy="86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090520" y="2766600"/>
                <a:ext cx="943560" cy="9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639800" y="376704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rror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639800" y="237564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rror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943440" y="1980000"/>
              <a:ext cx="1865880" cy="2084400"/>
              <a:chOff x="3943440" y="1980000"/>
              <a:chExt cx="1865880" cy="208440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4071960" y="2340000"/>
                <a:ext cx="1737360" cy="1724400"/>
                <a:chOff x="4071960" y="2340000"/>
                <a:chExt cx="1737360" cy="172440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4071960" y="2340000"/>
                  <a:ext cx="1737360" cy="1724400"/>
                  <a:chOff x="4071960" y="2340000"/>
                  <a:chExt cx="1737360" cy="172440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4071960" y="3200760"/>
                    <a:ext cx="868320" cy="863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4940280" y="3200760"/>
                    <a:ext cx="869040" cy="863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4071960" y="2340000"/>
                    <a:ext cx="868320" cy="860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4940280" y="2340000"/>
                    <a:ext cx="869040" cy="860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" name=""/>
                <p:cNvSpPr/>
                <p:nvPr/>
              </p:nvSpPr>
              <p:spPr>
                <a:xfrm>
                  <a:off x="4466880" y="3652920"/>
                  <a:ext cx="73332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478040" y="2747520"/>
                  <a:ext cx="941760" cy="91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943440" y="1980000"/>
                <a:ext cx="142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Correction error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6381720" y="1980000"/>
              <a:ext cx="1840320" cy="2086200"/>
              <a:chOff x="6381720" y="1980000"/>
              <a:chExt cx="1840320" cy="208620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6459480" y="2314440"/>
                <a:ext cx="1762560" cy="1751760"/>
                <a:chOff x="6459480" y="2314440"/>
                <a:chExt cx="1762560" cy="1751760"/>
              </a:xfrm>
            </p:grpSpPr>
            <p:grpSp>
              <p:nvGrpSpPr>
                <p:cNvPr id="65" name=""/>
                <p:cNvGrpSpPr/>
                <p:nvPr/>
              </p:nvGrpSpPr>
              <p:grpSpPr>
                <a:xfrm>
                  <a:off x="6459480" y="2314440"/>
                  <a:ext cx="1762560" cy="1751760"/>
                  <a:chOff x="6459480" y="2314440"/>
                  <a:chExt cx="1762560" cy="175176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6459480" y="3188880"/>
                    <a:ext cx="880920" cy="8773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340400" y="3188880"/>
                    <a:ext cx="881640" cy="8773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6459480" y="2314440"/>
                    <a:ext cx="880920" cy="8744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340400" y="2314440"/>
                    <a:ext cx="881640" cy="8744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" name=""/>
                <p:cNvSpPr/>
                <p:nvPr/>
              </p:nvSpPr>
              <p:spPr>
                <a:xfrm flipV="1">
                  <a:off x="6860520" y="2768760"/>
                  <a:ext cx="905040" cy="878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>
                  <a:off x="6870240" y="2720520"/>
                  <a:ext cx="74592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>
                <a:off x="6381720" y="1980000"/>
                <a:ext cx="142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Correction error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1324080" y="1701720"/>
            <a:ext cx="1939320" cy="1962360"/>
            <a:chOff x="1324080" y="1701720"/>
            <a:chExt cx="1939320" cy="1962360"/>
          </a:xfrm>
        </p:grpSpPr>
        <p:grpSp>
          <p:nvGrpSpPr>
            <p:cNvPr id="74" name=""/>
            <p:cNvGrpSpPr/>
            <p:nvPr/>
          </p:nvGrpSpPr>
          <p:grpSpPr>
            <a:xfrm>
              <a:off x="1324080" y="1701720"/>
              <a:ext cx="1939320" cy="1962360"/>
              <a:chOff x="1324080" y="1701720"/>
              <a:chExt cx="1939320" cy="196236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1324080" y="2487240"/>
                <a:ext cx="1939320" cy="392760"/>
                <a:chOff x="1324080" y="2487240"/>
                <a:chExt cx="1939320" cy="3927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32408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71180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099880" y="248724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48796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87568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324080" y="2094480"/>
                <a:ext cx="1939320" cy="392760"/>
                <a:chOff x="1324080" y="2094480"/>
                <a:chExt cx="1939320" cy="3927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3240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71180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0998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48796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8756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1324080" y="3271320"/>
                <a:ext cx="1939320" cy="392760"/>
                <a:chOff x="1324080" y="3271320"/>
                <a:chExt cx="1939320" cy="3927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132408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71180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09988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48796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875680" y="32713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324080" y="1701720"/>
                <a:ext cx="1939320" cy="392760"/>
                <a:chOff x="1324080" y="1701720"/>
                <a:chExt cx="1939320" cy="3927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32408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71180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09988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48796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87568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1324080" y="2878560"/>
                <a:ext cx="1939320" cy="392760"/>
                <a:chOff x="1324080" y="2878560"/>
                <a:chExt cx="1939320" cy="3927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3240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71180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0998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487960" y="287856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8756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" name=""/>
            <p:cNvGrpSpPr/>
            <p:nvPr/>
          </p:nvGrpSpPr>
          <p:grpSpPr>
            <a:xfrm>
              <a:off x="1514160" y="1704240"/>
              <a:ext cx="1746360" cy="1778760"/>
              <a:chOff x="1514160" y="1704240"/>
              <a:chExt cx="1746360" cy="1778760"/>
            </a:xfrm>
          </p:grpSpPr>
          <p:sp>
            <p:nvSpPr>
              <p:cNvPr id="106" name=""/>
              <p:cNvSpPr/>
              <p:nvPr/>
            </p:nvSpPr>
            <p:spPr>
              <a:xfrm flipH="1" flipV="1">
                <a:off x="2304720" y="268488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2687400" y="22856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2687400" y="189396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2687400" y="30686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292120" y="26924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1904040" y="22831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2302200" y="189936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229212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1901880" y="2687760"/>
                <a:ext cx="38052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906920" y="2291400"/>
                <a:ext cx="380160" cy="390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flipV="1">
                <a:off x="1514160" y="18864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189684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1516680" y="2687760"/>
                <a:ext cx="3801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1516680" y="229608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1516680" y="1905120"/>
                <a:ext cx="380160" cy="390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1516680" y="30787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2699640" y="308664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2282400" y="1704240"/>
                <a:ext cx="20700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3053160" y="2492280"/>
                <a:ext cx="20736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3995640" y="1701720"/>
            <a:ext cx="1938600" cy="1962000"/>
            <a:chOff x="3995640" y="1701720"/>
            <a:chExt cx="1938600" cy="1962000"/>
          </a:xfrm>
        </p:grpSpPr>
        <p:grpSp>
          <p:nvGrpSpPr>
            <p:cNvPr id="126" name=""/>
            <p:cNvGrpSpPr/>
            <p:nvPr/>
          </p:nvGrpSpPr>
          <p:grpSpPr>
            <a:xfrm>
              <a:off x="3995640" y="1701720"/>
              <a:ext cx="1938600" cy="1962000"/>
              <a:chOff x="3995640" y="1701720"/>
              <a:chExt cx="1938600" cy="196200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3995640" y="2487240"/>
                <a:ext cx="1938600" cy="392040"/>
                <a:chOff x="3995640" y="2487240"/>
                <a:chExt cx="1938600" cy="3920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995640" y="2487240"/>
                  <a:ext cx="38736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38300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77108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158800" y="2487240"/>
                  <a:ext cx="38736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54652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995640" y="2094120"/>
                <a:ext cx="1938600" cy="392400"/>
                <a:chOff x="3995640" y="2094120"/>
                <a:chExt cx="1938600" cy="3924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995640" y="20941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38300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7108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158800" y="20941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54652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995640" y="3271320"/>
                <a:ext cx="1938600" cy="392400"/>
                <a:chOff x="3995640" y="3271320"/>
                <a:chExt cx="1938600" cy="392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995640" y="32713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38300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77108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58800" y="32713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54652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995640" y="1701720"/>
                <a:ext cx="1938600" cy="392400"/>
                <a:chOff x="3995640" y="1701720"/>
                <a:chExt cx="1938600" cy="3924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995640" y="17017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8300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77108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158800" y="17017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54652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995640" y="2878920"/>
                <a:ext cx="1938600" cy="392400"/>
                <a:chOff x="3995640" y="2878920"/>
                <a:chExt cx="1938600" cy="3924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995640" y="28789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38300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77108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158800" y="28789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54652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4185720" y="1878480"/>
              <a:ext cx="1572840" cy="1610280"/>
              <a:chOff x="4185720" y="1878480"/>
              <a:chExt cx="1572840" cy="161028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4982760" y="1893600"/>
                <a:ext cx="38052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960440" y="22831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570920" y="18864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975560" y="269028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5368320" y="22802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5378400" y="1883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353560" y="3079080"/>
                <a:ext cx="38052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4963320" y="26978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4575240" y="22885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4963320" y="3089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4573080" y="2692440"/>
                <a:ext cx="38052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4578120" y="229608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4185720" y="18918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4568400" y="3089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4188240" y="26924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4188240" y="2301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4188240" y="19094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418824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5370480" y="3092040"/>
                <a:ext cx="375480" cy="39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5361120" y="268488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5375880" y="267696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4985640" y="22802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4610520" y="187848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6665760" y="1701720"/>
            <a:ext cx="1940040" cy="1962360"/>
            <a:chOff x="6665760" y="1701720"/>
            <a:chExt cx="1940040" cy="1962360"/>
          </a:xfrm>
        </p:grpSpPr>
        <p:grpSp>
          <p:nvGrpSpPr>
            <p:cNvPr id="182" name=""/>
            <p:cNvGrpSpPr/>
            <p:nvPr/>
          </p:nvGrpSpPr>
          <p:grpSpPr>
            <a:xfrm>
              <a:off x="6665760" y="1701720"/>
              <a:ext cx="1940040" cy="1962360"/>
              <a:chOff x="6665760" y="1701720"/>
              <a:chExt cx="1940040" cy="196236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665760" y="2487240"/>
                <a:ext cx="1940040" cy="392760"/>
                <a:chOff x="6665760" y="2487240"/>
                <a:chExt cx="1940040" cy="3927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665760" y="248724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053480" y="248724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41560" y="248724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82964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217720" y="248724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665760" y="2094480"/>
                <a:ext cx="1940040" cy="392760"/>
                <a:chOff x="6665760" y="2094480"/>
                <a:chExt cx="1940040" cy="3927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66576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053480" y="209448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441560" y="209448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82964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217720" y="209448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6665760" y="3271320"/>
                <a:ext cx="1940040" cy="392760"/>
                <a:chOff x="6665760" y="3271320"/>
                <a:chExt cx="1940040" cy="3927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6665760" y="32713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05348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44156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82964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821772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665760" y="1701720"/>
                <a:ext cx="1940040" cy="392760"/>
                <a:chOff x="6665760" y="1701720"/>
                <a:chExt cx="1940040" cy="3927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66576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05348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44156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82964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1772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665760" y="2878560"/>
                <a:ext cx="1940040" cy="392760"/>
                <a:chOff x="6665760" y="2878560"/>
                <a:chExt cx="1940040" cy="3927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665760" y="287856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053480" y="287856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41560" y="287856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82964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17720" y="287856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3320" y="1848600"/>
              <a:ext cx="1581120" cy="1653120"/>
              <a:chOff x="6853320" y="1848600"/>
              <a:chExt cx="1581120" cy="16531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6853320" y="308448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7253640" y="267696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7653600" y="227592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8049240" y="1874160"/>
                <a:ext cx="38520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6863040" y="268236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63360" y="227592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7658640" y="187884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6892560" y="226044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7293240" y="185292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6917400" y="184860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643520" y="307368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 flipV="1">
                <a:off x="8024040" y="266184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7643520" y="268272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8048880" y="229104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7223400" y="307908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8043840" y="309996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6877440" y="3073680"/>
                <a:ext cx="375480" cy="4014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7253280" y="267228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8034120" y="188964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flipV="1">
                <a:off x="7643520" y="228096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1324080" y="4392720"/>
            <a:ext cx="1960200" cy="1891800"/>
            <a:chOff x="1324080" y="4392720"/>
            <a:chExt cx="1960200" cy="1891800"/>
          </a:xfrm>
        </p:grpSpPr>
        <p:grpSp>
          <p:nvGrpSpPr>
            <p:cNvPr id="235" name=""/>
            <p:cNvGrpSpPr/>
            <p:nvPr/>
          </p:nvGrpSpPr>
          <p:grpSpPr>
            <a:xfrm>
              <a:off x="1324080" y="4392720"/>
              <a:ext cx="1958040" cy="1891800"/>
              <a:chOff x="1324080" y="4392720"/>
              <a:chExt cx="1958040" cy="18918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1324080" y="5146920"/>
                <a:ext cx="1958040" cy="376920"/>
                <a:chOff x="1324080" y="5146920"/>
                <a:chExt cx="1958040" cy="3769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324080" y="51469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715400" y="51469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107080" y="514692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498760" y="51469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890440" y="51469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1324080" y="4769640"/>
                <a:ext cx="1958040" cy="376920"/>
                <a:chOff x="1324080" y="4769640"/>
                <a:chExt cx="1958040" cy="3769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324080" y="476964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715400" y="476964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07080" y="476964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498760" y="476964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890440" y="476964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324080" y="5907600"/>
                <a:ext cx="1958040" cy="376920"/>
                <a:chOff x="1324080" y="5907600"/>
                <a:chExt cx="1958040" cy="3769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324080" y="590760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715400" y="590760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107080" y="590760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498760" y="590760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890440" y="590760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324080" y="4392720"/>
                <a:ext cx="1958040" cy="376920"/>
                <a:chOff x="1324080" y="4392720"/>
                <a:chExt cx="1958040" cy="3769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324080" y="4392720"/>
                  <a:ext cx="39132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71540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10708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98760" y="43927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89044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324080" y="5530320"/>
                <a:ext cx="1958040" cy="376920"/>
                <a:chOff x="1324080" y="5530320"/>
                <a:chExt cx="1958040" cy="37692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324080" y="55303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71540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10708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498760" y="5530320"/>
                  <a:ext cx="39132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89044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6" name=""/>
            <p:cNvGrpSpPr/>
            <p:nvPr/>
          </p:nvGrpSpPr>
          <p:grpSpPr>
            <a:xfrm>
              <a:off x="1515960" y="4394880"/>
              <a:ext cx="1768320" cy="1711080"/>
              <a:chOff x="1515960" y="4394880"/>
              <a:chExt cx="1768320" cy="1711080"/>
            </a:xfrm>
          </p:grpSpPr>
          <p:sp>
            <p:nvSpPr>
              <p:cNvPr id="267" name=""/>
              <p:cNvSpPr/>
              <p:nvPr/>
            </p:nvSpPr>
            <p:spPr>
              <a:xfrm flipH="1" flipV="1">
                <a:off x="2313720" y="53370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700360" y="49539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2700360" y="457776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>
                <a:off x="1909440" y="4951440"/>
                <a:ext cx="37908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2311200" y="458280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301480" y="57207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907280" y="5339880"/>
                <a:ext cx="38412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1515960" y="45702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1902240" y="57207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518480" y="53398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18480" y="495864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518480" y="460764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518480" y="571572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2712600" y="5722920"/>
                <a:ext cx="37908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291400" y="4394880"/>
                <a:ext cx="20916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3069360" y="515160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1897200" y="439488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3074760" y="552276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2695320" y="574992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301480" y="535428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1907280" y="497844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3989520" y="4405320"/>
            <a:ext cx="1956960" cy="1898640"/>
            <a:chOff x="3989520" y="4405320"/>
            <a:chExt cx="1956960" cy="1898640"/>
          </a:xfrm>
        </p:grpSpPr>
        <p:grpSp>
          <p:nvGrpSpPr>
            <p:cNvPr id="289" name=""/>
            <p:cNvGrpSpPr/>
            <p:nvPr/>
          </p:nvGrpSpPr>
          <p:grpSpPr>
            <a:xfrm>
              <a:off x="3989520" y="4405320"/>
              <a:ext cx="1956960" cy="1898640"/>
              <a:chOff x="3989520" y="4405320"/>
              <a:chExt cx="1956960" cy="189864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3989520" y="5159520"/>
                <a:ext cx="1956960" cy="376200"/>
                <a:chOff x="3989520" y="5159520"/>
                <a:chExt cx="1956960" cy="3762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98952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38084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7216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16384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55516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989520" y="4781520"/>
                <a:ext cx="1956960" cy="378000"/>
                <a:chOff x="3989520" y="4781520"/>
                <a:chExt cx="1956960" cy="3780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98952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38084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77216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16384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55516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989520" y="5927760"/>
                <a:ext cx="1956960" cy="376200"/>
                <a:chOff x="3989520" y="5927760"/>
                <a:chExt cx="1956960" cy="3762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98952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38084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7216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16384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55516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3989520" y="4405320"/>
                <a:ext cx="1956960" cy="376200"/>
                <a:chOff x="3989520" y="4405320"/>
                <a:chExt cx="1956960" cy="3762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398952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38084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77216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16384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55516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989520" y="5549760"/>
                <a:ext cx="1956960" cy="378000"/>
                <a:chOff x="3989520" y="5549760"/>
                <a:chExt cx="1956960" cy="3780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98952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38084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7216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16384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5516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0" name=""/>
            <p:cNvGrpSpPr/>
            <p:nvPr/>
          </p:nvGrpSpPr>
          <p:grpSpPr>
            <a:xfrm>
              <a:off x="4181400" y="4582440"/>
              <a:ext cx="1582560" cy="1538280"/>
              <a:chOff x="4181400" y="4582440"/>
              <a:chExt cx="1582560" cy="1538280"/>
            </a:xfrm>
          </p:grpSpPr>
          <p:sp>
            <p:nvSpPr>
              <p:cNvPr id="321" name=""/>
              <p:cNvSpPr/>
              <p:nvPr/>
            </p:nvSpPr>
            <p:spPr>
              <a:xfrm flipH="1">
                <a:off x="4991400" y="45856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flipV="1">
                <a:off x="4964040" y="4963680"/>
                <a:ext cx="3787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flipV="1">
                <a:off x="4570200" y="45828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4978800" y="535428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380200" y="49564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5380200" y="45856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4574880" y="496836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4966560" y="573768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4572360" y="5356800"/>
                <a:ext cx="38412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4181400" y="458784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4567680" y="573768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4183920" y="535680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4183920" y="498132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flipV="1">
                <a:off x="4188240" y="4609800"/>
                <a:ext cx="2520" cy="3855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4183920" y="573300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5377680" y="57402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5367960" y="534924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4619520" y="4582440"/>
                <a:ext cx="36396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>
                <a:off x="4577040" y="4996080"/>
                <a:ext cx="2520" cy="3780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5013720" y="4968000"/>
                <a:ext cx="35640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>
                <a:off x="4966200" y="5366880"/>
                <a:ext cx="2520" cy="37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397840" y="5339160"/>
                <a:ext cx="35640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5360400" y="5738040"/>
                <a:ext cx="5040" cy="37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6647040" y="4390920"/>
            <a:ext cx="1958400" cy="1893960"/>
            <a:chOff x="6647040" y="4390920"/>
            <a:chExt cx="1958400" cy="1893960"/>
          </a:xfrm>
        </p:grpSpPr>
        <p:grpSp>
          <p:nvGrpSpPr>
            <p:cNvPr id="345" name=""/>
            <p:cNvGrpSpPr/>
            <p:nvPr/>
          </p:nvGrpSpPr>
          <p:grpSpPr>
            <a:xfrm>
              <a:off x="6647040" y="4390920"/>
              <a:ext cx="1958400" cy="1893960"/>
              <a:chOff x="6647040" y="4390920"/>
              <a:chExt cx="1958400" cy="18939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6647040" y="5145480"/>
                <a:ext cx="1958400" cy="378000"/>
                <a:chOff x="6647040" y="5145480"/>
                <a:chExt cx="1958400" cy="3780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6647040" y="514548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038360" y="514548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430400" y="514548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822080" y="5145480"/>
                  <a:ext cx="39132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213760" y="51454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6647040" y="4768920"/>
                <a:ext cx="1958400" cy="376200"/>
                <a:chOff x="6647040" y="4768920"/>
                <a:chExt cx="1958400" cy="37620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647040" y="47689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038360" y="4768920"/>
                  <a:ext cx="39168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430400" y="4768920"/>
                  <a:ext cx="39168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822080" y="47689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213760" y="4768920"/>
                  <a:ext cx="391680" cy="376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6647040" y="5906880"/>
                <a:ext cx="1958400" cy="378000"/>
                <a:chOff x="6647040" y="5906880"/>
                <a:chExt cx="1958400" cy="3780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647040" y="590688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03836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43040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822080" y="5906880"/>
                  <a:ext cx="39132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21376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6647040" y="4390920"/>
                <a:ext cx="1958400" cy="378000"/>
                <a:chOff x="6647040" y="4390920"/>
                <a:chExt cx="1958400" cy="3780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6647040" y="43909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03836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43040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822080" y="43909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821376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6647040" y="5529960"/>
                <a:ext cx="1958400" cy="376560"/>
                <a:chOff x="6647040" y="5529960"/>
                <a:chExt cx="1958400" cy="3765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6647040" y="5529960"/>
                  <a:ext cx="391320" cy="37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038360" y="5529960"/>
                  <a:ext cx="391680" cy="37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430400" y="5529960"/>
                  <a:ext cx="39168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822080" y="5529960"/>
                  <a:ext cx="39132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213760" y="5529960"/>
                  <a:ext cx="39168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6836040" y="4530960"/>
              <a:ext cx="1597680" cy="1589400"/>
              <a:chOff x="6836040" y="4530960"/>
              <a:chExt cx="1597680" cy="158940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6836040" y="4530960"/>
                <a:ext cx="1597680" cy="1589400"/>
                <a:chOff x="6836040" y="4530960"/>
                <a:chExt cx="1597680" cy="1589400"/>
              </a:xfrm>
            </p:grpSpPr>
            <p:sp>
              <p:nvSpPr>
                <p:cNvPr id="378" name=""/>
                <p:cNvSpPr/>
                <p:nvPr/>
              </p:nvSpPr>
              <p:spPr>
                <a:xfrm flipV="1">
                  <a:off x="6836040" y="5718600"/>
                  <a:ext cx="3898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7240680" y="5327640"/>
                  <a:ext cx="38880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>
                  <a:off x="7644240" y="4941360"/>
                  <a:ext cx="39024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8043480" y="4555800"/>
                  <a:ext cx="39024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6845400" y="5332680"/>
                  <a:ext cx="3898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>
                  <a:off x="7250040" y="4941360"/>
                  <a:ext cx="3898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V="1">
                  <a:off x="7649640" y="4561200"/>
                  <a:ext cx="389880" cy="37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6876360" y="4927320"/>
                  <a:ext cx="38844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V="1">
                  <a:off x="7281000" y="4536000"/>
                  <a:ext cx="388800" cy="37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V="1">
                  <a:off x="6900480" y="4530960"/>
                  <a:ext cx="3898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flipV="1">
                  <a:off x="7634520" y="5709600"/>
                  <a:ext cx="379080" cy="38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>
                  <a:off x="8019360" y="5312880"/>
                  <a:ext cx="379080" cy="38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>
                  <a:off x="7634520" y="5332680"/>
                  <a:ext cx="379080" cy="38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flipV="1">
                  <a:off x="8043480" y="4955760"/>
                  <a:ext cx="380880" cy="38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 flipV="1">
                  <a:off x="8039160" y="5734440"/>
                  <a:ext cx="379080" cy="38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8408520" y="46000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7629480" y="53470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7220880" y="57538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8034480" y="495576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 flipH="1" flipV="1">
                <a:off x="7247160" y="5720040"/>
                <a:ext cx="380520" cy="38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944640" y="16934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73720" y="1722240"/>
            <a:ext cx="3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17640" y="16887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81360" y="121104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ossing flow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57600" y="3897000"/>
            <a:ext cx="18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rected flow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92160" y="66744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44640" y="4379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73720" y="4408200"/>
            <a:ext cx="3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617640" y="4374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6621480" y="1557360"/>
            <a:ext cx="1798920" cy="329760"/>
            <a:chOff x="6621480" y="1557360"/>
            <a:chExt cx="1798920" cy="329760"/>
          </a:xfrm>
        </p:grpSpPr>
        <p:sp>
          <p:nvSpPr>
            <p:cNvPr id="408" name=""/>
            <p:cNvSpPr/>
            <p:nvPr/>
          </p:nvSpPr>
          <p:spPr>
            <a:xfrm>
              <a:off x="6621480" y="1557360"/>
              <a:ext cx="276120" cy="255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96240" y="1580040"/>
              <a:ext cx="142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lat area in D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870360" y="4414680"/>
            <a:ext cx="1861920" cy="1873080"/>
            <a:chOff x="3870360" y="4414680"/>
            <a:chExt cx="1861920" cy="1873080"/>
          </a:xfrm>
        </p:grpSpPr>
        <p:grpSp>
          <p:nvGrpSpPr>
            <p:cNvPr id="411" name=""/>
            <p:cNvGrpSpPr/>
            <p:nvPr/>
          </p:nvGrpSpPr>
          <p:grpSpPr>
            <a:xfrm>
              <a:off x="3870360" y="4418640"/>
              <a:ext cx="1861920" cy="1869120"/>
              <a:chOff x="3870360" y="4418640"/>
              <a:chExt cx="1861920" cy="186912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3870360" y="5167800"/>
                <a:ext cx="1861920" cy="372960"/>
                <a:chOff x="3870360" y="5167800"/>
                <a:chExt cx="1861920" cy="3729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242960" y="5167800"/>
                  <a:ext cx="37260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615560" y="5167800"/>
                  <a:ext cx="37152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987080" y="5167800"/>
                  <a:ext cx="37260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870360" y="5167800"/>
                  <a:ext cx="372600" cy="372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359680" y="5167800"/>
                  <a:ext cx="372600" cy="372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870360" y="4793040"/>
                <a:ext cx="1861920" cy="374760"/>
                <a:chOff x="3870360" y="4793040"/>
                <a:chExt cx="1861920" cy="37476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242960" y="479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615560" y="479304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987080" y="479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870360" y="479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359680" y="479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3870360" y="5913000"/>
                <a:ext cx="1861920" cy="374760"/>
                <a:chOff x="3870360" y="5913000"/>
                <a:chExt cx="1861920" cy="37476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387036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24296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615560" y="591300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98708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35968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3870360" y="4418640"/>
                <a:ext cx="1861920" cy="374400"/>
                <a:chOff x="3870360" y="4418640"/>
                <a:chExt cx="1861920" cy="3744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4242960" y="4418640"/>
                  <a:ext cx="37260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87036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615560" y="4418640"/>
                  <a:ext cx="37152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98708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35968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3870360" y="5538240"/>
                <a:ext cx="1861920" cy="374400"/>
                <a:chOff x="3870360" y="5538240"/>
                <a:chExt cx="1861920" cy="374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242960" y="5538240"/>
                  <a:ext cx="37260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615560" y="5538240"/>
                  <a:ext cx="37152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87036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98708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35968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2" name=""/>
            <p:cNvGrpSpPr/>
            <p:nvPr/>
          </p:nvGrpSpPr>
          <p:grpSpPr>
            <a:xfrm>
              <a:off x="4031280" y="4414680"/>
              <a:ext cx="1517040" cy="1700280"/>
              <a:chOff x="4031280" y="4414680"/>
              <a:chExt cx="1517040" cy="1700280"/>
            </a:xfrm>
          </p:grpSpPr>
          <p:sp>
            <p:nvSpPr>
              <p:cNvPr id="443" name=""/>
              <p:cNvSpPr/>
              <p:nvPr/>
            </p:nvSpPr>
            <p:spPr>
              <a:xfrm flipV="1">
                <a:off x="5167800" y="57315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4792680" y="57315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5183640" y="53373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 flipV="1">
                <a:off x="5157360" y="459576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 flipV="1">
                <a:off x="4787280" y="46065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flipV="1">
                <a:off x="4808160" y="49953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031280" y="496944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36320" y="571644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051800" y="535320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>
                <a:off x="4448520" y="537912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flipV="1">
                <a:off x="4448520" y="500040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036320" y="459612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98760" y="441468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4432680" y="461664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443480" y="503172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4433040" y="4663080"/>
                <a:ext cx="0" cy="32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421880" y="57369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1139760" y="4414680"/>
            <a:ext cx="1861920" cy="1871640"/>
            <a:chOff x="1139760" y="4414680"/>
            <a:chExt cx="1861920" cy="1871640"/>
          </a:xfrm>
        </p:grpSpPr>
        <p:grpSp>
          <p:nvGrpSpPr>
            <p:cNvPr id="461" name=""/>
            <p:cNvGrpSpPr/>
            <p:nvPr/>
          </p:nvGrpSpPr>
          <p:grpSpPr>
            <a:xfrm>
              <a:off x="1139760" y="4414680"/>
              <a:ext cx="1861920" cy="1871640"/>
              <a:chOff x="1139760" y="4414680"/>
              <a:chExt cx="1861920" cy="187164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1139760" y="5164920"/>
                <a:ext cx="1861920" cy="373680"/>
                <a:chOff x="1139760" y="5164920"/>
                <a:chExt cx="1861920" cy="37368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512360" y="5164920"/>
                  <a:ext cx="37260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884960" y="5164920"/>
                  <a:ext cx="37152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256480" y="5164920"/>
                  <a:ext cx="37260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139760" y="5164920"/>
                  <a:ext cx="372600" cy="37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629080" y="5164920"/>
                  <a:ext cx="372600" cy="37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1139760" y="4789440"/>
                <a:ext cx="1861920" cy="375120"/>
                <a:chOff x="1139760" y="4789440"/>
                <a:chExt cx="1861920" cy="3751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1512360" y="4789440"/>
                  <a:ext cx="37260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884960" y="4789440"/>
                  <a:ext cx="37152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256480" y="4789440"/>
                  <a:ext cx="37260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139760" y="478944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629080" y="478944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1139760" y="5911200"/>
                <a:ext cx="1861920" cy="375120"/>
                <a:chOff x="1139760" y="5911200"/>
                <a:chExt cx="1861920" cy="3751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13976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51236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884960" y="5911200"/>
                  <a:ext cx="37152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25648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62908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1139760" y="4414680"/>
                <a:ext cx="1861920" cy="374760"/>
                <a:chOff x="1139760" y="4414680"/>
                <a:chExt cx="1861920" cy="3747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1512360" y="441468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13976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884960" y="441468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25648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62908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1139760" y="5536080"/>
                <a:ext cx="1861920" cy="374760"/>
                <a:chOff x="1139760" y="5536080"/>
                <a:chExt cx="1861920" cy="3747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12360" y="553608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884960" y="553608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13976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25648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62908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2" name=""/>
            <p:cNvGrpSpPr/>
            <p:nvPr/>
          </p:nvGrpSpPr>
          <p:grpSpPr>
            <a:xfrm>
              <a:off x="1301040" y="4571280"/>
              <a:ext cx="1517040" cy="1541880"/>
              <a:chOff x="1301040" y="4571280"/>
              <a:chExt cx="1517040" cy="154188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1301040" y="4571280"/>
                <a:ext cx="1517040" cy="1541880"/>
                <a:chOff x="1301040" y="4571280"/>
                <a:chExt cx="1517040" cy="1541880"/>
              </a:xfrm>
            </p:grpSpPr>
            <p:sp>
              <p:nvSpPr>
                <p:cNvPr id="494" name=""/>
                <p:cNvSpPr/>
                <p:nvPr/>
              </p:nvSpPr>
              <p:spPr>
                <a:xfrm flipV="1">
                  <a:off x="2437560" y="572904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2062080" y="572904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2453400" y="533412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 flipV="1">
                  <a:off x="2426760" y="459180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flipV="1">
                  <a:off x="2056680" y="460188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2077560" y="499140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301040" y="496584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305360" y="57135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321200" y="53499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 flipV="1">
                  <a:off x="1717920" y="538092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 flipV="1">
                  <a:off x="1712520" y="500220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649520" y="457128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305360" y="45921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1931760" y="479340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582560" y="4803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1576080" y="518508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1696320" y="5739480"/>
                <a:ext cx="38556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3870360" y="1550880"/>
            <a:ext cx="1861920" cy="1834920"/>
            <a:chOff x="3870360" y="1550880"/>
            <a:chExt cx="1861920" cy="1834920"/>
          </a:xfrm>
        </p:grpSpPr>
        <p:grpSp>
          <p:nvGrpSpPr>
            <p:cNvPr id="512" name=""/>
            <p:cNvGrpSpPr/>
            <p:nvPr/>
          </p:nvGrpSpPr>
          <p:grpSpPr>
            <a:xfrm>
              <a:off x="3870360" y="1550880"/>
              <a:ext cx="1861920" cy="1834920"/>
              <a:chOff x="3870360" y="1550880"/>
              <a:chExt cx="1861920" cy="183492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3870360" y="2286360"/>
                <a:ext cx="1861920" cy="366480"/>
                <a:chOff x="3870360" y="2286360"/>
                <a:chExt cx="1861920" cy="36648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4242960" y="2286360"/>
                  <a:ext cx="37260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615560" y="2286360"/>
                  <a:ext cx="37152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987080" y="2286360"/>
                  <a:ext cx="37260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870360" y="2286360"/>
                  <a:ext cx="372600" cy="36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359680" y="2286360"/>
                  <a:ext cx="372600" cy="36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3870360" y="1918440"/>
                <a:ext cx="1861920" cy="367920"/>
                <a:chOff x="3870360" y="1918440"/>
                <a:chExt cx="1861920" cy="36792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242960" y="1918440"/>
                  <a:ext cx="37260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4615560" y="1918440"/>
                  <a:ext cx="37152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987080" y="1918440"/>
                  <a:ext cx="37260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870360" y="191844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359680" y="191844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3870360" y="3017880"/>
                <a:ext cx="1861920" cy="367920"/>
                <a:chOff x="3870360" y="3017880"/>
                <a:chExt cx="1861920" cy="3679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387036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24296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615560" y="3017880"/>
                  <a:ext cx="37152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98708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35968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3870360" y="1550880"/>
                <a:ext cx="1861920" cy="367560"/>
                <a:chOff x="3870360" y="1550880"/>
                <a:chExt cx="1861920" cy="3675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4242960" y="155088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87036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615560" y="1550880"/>
                  <a:ext cx="37152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98708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35968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3870360" y="2650320"/>
                <a:ext cx="1861920" cy="367560"/>
                <a:chOff x="3870360" y="2650320"/>
                <a:chExt cx="1861920" cy="36756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4242960" y="265032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615560" y="2650320"/>
                  <a:ext cx="37152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87036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98708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35968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4031280" y="1704960"/>
              <a:ext cx="1517400" cy="1511640"/>
              <a:chOff x="4031280" y="1704960"/>
              <a:chExt cx="1517400" cy="151164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4031280" y="1704960"/>
                <a:ext cx="1517400" cy="1511640"/>
                <a:chOff x="4031280" y="1704960"/>
                <a:chExt cx="1517400" cy="1511640"/>
              </a:xfrm>
            </p:grpSpPr>
            <p:sp>
              <p:nvSpPr>
                <p:cNvPr id="545" name=""/>
                <p:cNvSpPr/>
                <p:nvPr/>
              </p:nvSpPr>
              <p:spPr>
                <a:xfrm flipV="1">
                  <a:off x="5168160" y="284004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V="1">
                  <a:off x="4793040" y="284004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5184000" y="245268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 flipV="1">
                  <a:off x="5157360" y="172512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 flipV="1">
                  <a:off x="4787640" y="173520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781880" y="208620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031280" y="209160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036680" y="282456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052520" y="246816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422240" y="246816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4416840" y="209664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380480" y="170496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4036680" y="172512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5047200" y="2292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697280" y="2292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691520" y="26629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" name=""/>
              <p:cNvSpPr/>
              <p:nvPr/>
            </p:nvSpPr>
            <p:spPr>
              <a:xfrm>
                <a:off x="4428000" y="2840040"/>
                <a:ext cx="385920" cy="35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2" name=""/>
          <p:cNvGrpSpPr/>
          <p:nvPr/>
        </p:nvGrpSpPr>
        <p:grpSpPr>
          <a:xfrm>
            <a:off x="1139760" y="1382760"/>
            <a:ext cx="1861920" cy="2020320"/>
            <a:chOff x="1139760" y="1382760"/>
            <a:chExt cx="1861920" cy="2020320"/>
          </a:xfrm>
        </p:grpSpPr>
        <p:grpSp>
          <p:nvGrpSpPr>
            <p:cNvPr id="563" name=""/>
            <p:cNvGrpSpPr/>
            <p:nvPr/>
          </p:nvGrpSpPr>
          <p:grpSpPr>
            <a:xfrm>
              <a:off x="1139760" y="1569600"/>
              <a:ext cx="1861920" cy="1833480"/>
              <a:chOff x="1139760" y="1569600"/>
              <a:chExt cx="1861920" cy="183348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1139760" y="2304720"/>
                <a:ext cx="1861920" cy="366120"/>
                <a:chOff x="1139760" y="2304720"/>
                <a:chExt cx="1861920" cy="3661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1512360" y="2304720"/>
                  <a:ext cx="37260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884960" y="2304720"/>
                  <a:ext cx="37152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256480" y="2304720"/>
                  <a:ext cx="37260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139760" y="2304720"/>
                  <a:ext cx="372600" cy="36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629080" y="2304720"/>
                  <a:ext cx="372600" cy="36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1139760" y="1936800"/>
                <a:ext cx="1861920" cy="367560"/>
                <a:chOff x="1139760" y="1936800"/>
                <a:chExt cx="1861920" cy="36756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512360" y="193680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884960" y="1936800"/>
                  <a:ext cx="37152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256480" y="193680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39760" y="193680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629080" y="193680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1139760" y="3035520"/>
                <a:ext cx="1861920" cy="367560"/>
                <a:chOff x="1139760" y="3035520"/>
                <a:chExt cx="1861920" cy="36756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113976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51236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884960" y="3035520"/>
                  <a:ext cx="37152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25648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62908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1139760" y="1569600"/>
                <a:ext cx="1861920" cy="367200"/>
                <a:chOff x="1139760" y="1569600"/>
                <a:chExt cx="1861920" cy="36720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1512360" y="1569600"/>
                  <a:ext cx="37260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13976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884960" y="1569600"/>
                  <a:ext cx="37152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25648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62908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1139760" y="2668320"/>
                <a:ext cx="1861920" cy="367200"/>
                <a:chOff x="1139760" y="2668320"/>
                <a:chExt cx="1861920" cy="36720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1512360" y="2668320"/>
                  <a:ext cx="37260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884960" y="2668320"/>
                  <a:ext cx="37152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13976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5648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62908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4" name=""/>
            <p:cNvGrpSpPr/>
            <p:nvPr/>
          </p:nvGrpSpPr>
          <p:grpSpPr>
            <a:xfrm>
              <a:off x="1267200" y="1382760"/>
              <a:ext cx="1550160" cy="1850400"/>
              <a:chOff x="1267200" y="1382760"/>
              <a:chExt cx="1550160" cy="185040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1267200" y="1382760"/>
                <a:ext cx="1550160" cy="1850400"/>
                <a:chOff x="1267200" y="1382760"/>
                <a:chExt cx="1550160" cy="1850400"/>
              </a:xfrm>
            </p:grpSpPr>
            <p:sp>
              <p:nvSpPr>
                <p:cNvPr id="596" name=""/>
                <p:cNvSpPr/>
                <p:nvPr/>
              </p:nvSpPr>
              <p:spPr>
                <a:xfrm flipV="1">
                  <a:off x="2437200" y="2856960"/>
                  <a:ext cx="3646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V="1">
                  <a:off x="2061720" y="2856960"/>
                  <a:ext cx="3646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V="1">
                  <a:off x="2452680" y="247068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 flipV="1">
                  <a:off x="2426400" y="174312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H="1" flipV="1">
                  <a:off x="2056320" y="17532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H="1" flipV="1">
                  <a:off x="2051280" y="21042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 flipV="1">
                  <a:off x="1691640" y="24858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H="1" flipV="1">
                  <a:off x="1691640" y="211968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 flipV="1">
                  <a:off x="1654920" y="173304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331640" y="28728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V="1">
                  <a:off x="1686600" y="253728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>
                  <a:off x="1665720" y="178956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V="1">
                  <a:off x="1676160" y="216072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267200" y="1756440"/>
                  <a:ext cx="349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288080" y="2126880"/>
                  <a:ext cx="34920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288080" y="2503800"/>
                  <a:ext cx="349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V="1">
                  <a:off x="1660680" y="138276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1696320" y="2867400"/>
                <a:ext cx="385560" cy="35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4" name=""/>
          <p:cNvGrpSpPr/>
          <p:nvPr/>
        </p:nvGrpSpPr>
        <p:grpSpPr>
          <a:xfrm>
            <a:off x="6672240" y="4273560"/>
            <a:ext cx="1861920" cy="2029680"/>
            <a:chOff x="6672240" y="4273560"/>
            <a:chExt cx="1861920" cy="2029680"/>
          </a:xfrm>
        </p:grpSpPr>
        <p:grpSp>
          <p:nvGrpSpPr>
            <p:cNvPr id="615" name=""/>
            <p:cNvGrpSpPr/>
            <p:nvPr/>
          </p:nvGrpSpPr>
          <p:grpSpPr>
            <a:xfrm>
              <a:off x="6672240" y="4433040"/>
              <a:ext cx="1861920" cy="1870200"/>
              <a:chOff x="6672240" y="4433040"/>
              <a:chExt cx="1861920" cy="187020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6672240" y="5182560"/>
                <a:ext cx="1861920" cy="373320"/>
                <a:chOff x="6672240" y="5182560"/>
                <a:chExt cx="1861920" cy="3733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7044840" y="5182560"/>
                  <a:ext cx="37260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417440" y="5182560"/>
                  <a:ext cx="37152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788960" y="5182560"/>
                  <a:ext cx="37260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672240" y="5182560"/>
                  <a:ext cx="372600" cy="37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8161560" y="5182560"/>
                  <a:ext cx="372600" cy="37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6672240" y="4807800"/>
                <a:ext cx="1861920" cy="374760"/>
                <a:chOff x="6672240" y="4807800"/>
                <a:chExt cx="1861920" cy="37476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7044840" y="480780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7417440" y="480780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788960" y="480780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672240" y="48078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161560" y="48078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6672240" y="5928480"/>
                <a:ext cx="1861920" cy="374760"/>
                <a:chOff x="6672240" y="5928480"/>
                <a:chExt cx="1861920" cy="37476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67224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704484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7417440" y="592848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78896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16156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6672240" y="4433040"/>
                <a:ext cx="1861920" cy="374760"/>
                <a:chOff x="6672240" y="4433040"/>
                <a:chExt cx="1861920" cy="3747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7044840" y="443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67224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17440" y="443304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78896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16156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6672240" y="5553720"/>
                <a:ext cx="1861920" cy="374760"/>
                <a:chOff x="6672240" y="5553720"/>
                <a:chExt cx="1861920" cy="37476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7044840" y="555372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7417440" y="555372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67224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778896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816156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6" name=""/>
            <p:cNvGrpSpPr/>
            <p:nvPr/>
          </p:nvGrpSpPr>
          <p:grpSpPr>
            <a:xfrm>
              <a:off x="6833160" y="4273560"/>
              <a:ext cx="1517400" cy="1857240"/>
              <a:chOff x="6833160" y="4273560"/>
              <a:chExt cx="1517400" cy="18572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6833160" y="4610880"/>
                <a:ext cx="1517400" cy="1519920"/>
                <a:chOff x="6833160" y="4610880"/>
                <a:chExt cx="1517400" cy="1519920"/>
              </a:xfrm>
            </p:grpSpPr>
            <p:sp>
              <p:nvSpPr>
                <p:cNvPr id="648" name=""/>
                <p:cNvSpPr/>
                <p:nvPr/>
              </p:nvSpPr>
              <p:spPr>
                <a:xfrm flipV="1">
                  <a:off x="7970040" y="574704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7594920" y="574704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V="1">
                  <a:off x="7985880" y="535248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 flipV="1">
                  <a:off x="7959240" y="46108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 flipV="1">
                  <a:off x="7589520" y="462096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 flipV="1">
                  <a:off x="7610040" y="501012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833160" y="498420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838560" y="573120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854400" y="536796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 flipV="1">
                  <a:off x="7250400" y="53938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 flipV="1">
                  <a:off x="7250400" y="501552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838560" y="461088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 flipV="1">
                  <a:off x="7234560" y="463176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V="1">
                  <a:off x="7245360" y="5046120"/>
                  <a:ext cx="0" cy="32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V="1">
                  <a:off x="7234920" y="4678200"/>
                  <a:ext cx="0" cy="32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224120" y="57520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 flipV="1">
                <a:off x="7234920" y="4273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5" name=""/>
          <p:cNvSpPr/>
          <p:nvPr/>
        </p:nvSpPr>
        <p:spPr>
          <a:xfrm>
            <a:off x="3814560" y="10893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86840" y="110844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ographic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082520" y="3719880"/>
            <a:ext cx="219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1st 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772080" y="374832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2nd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66040" y="3738960"/>
            <a:ext cx="29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3th 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92160" y="6105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3849840" y="1565280"/>
            <a:ext cx="2137320" cy="2036160"/>
            <a:chOff x="3849840" y="1565280"/>
            <a:chExt cx="2137320" cy="2036160"/>
          </a:xfrm>
        </p:grpSpPr>
        <p:grpSp>
          <p:nvGrpSpPr>
            <p:cNvPr id="672" name=""/>
            <p:cNvGrpSpPr/>
            <p:nvPr/>
          </p:nvGrpSpPr>
          <p:grpSpPr>
            <a:xfrm>
              <a:off x="3849840" y="1565280"/>
              <a:ext cx="2137320" cy="2036160"/>
              <a:chOff x="3849840" y="1565280"/>
              <a:chExt cx="2137320" cy="2036160"/>
            </a:xfrm>
          </p:grpSpPr>
          <p:grpSp>
            <p:nvGrpSpPr>
              <p:cNvPr id="673" name=""/>
              <p:cNvGrpSpPr/>
              <p:nvPr/>
            </p:nvGrpSpPr>
            <p:grpSpPr>
              <a:xfrm>
                <a:off x="3849840" y="2381400"/>
                <a:ext cx="2137320" cy="406440"/>
                <a:chOff x="3849840" y="2381400"/>
                <a:chExt cx="2137320" cy="4064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4277520" y="238140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705200" y="2381400"/>
                  <a:ext cx="4262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131440" y="238140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849840" y="238140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559120" y="238140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3849840" y="1973160"/>
                <a:ext cx="2137320" cy="408240"/>
                <a:chOff x="3849840" y="1973160"/>
                <a:chExt cx="2137320" cy="40824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4277520" y="197316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705200" y="197316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131440" y="19731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849840" y="19731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559120" y="197316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3849840" y="3193200"/>
                <a:ext cx="2137320" cy="408240"/>
                <a:chOff x="3849840" y="3193200"/>
                <a:chExt cx="2137320" cy="40824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84984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27752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705200" y="319320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13144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559120" y="319320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849840" y="1565280"/>
                <a:ext cx="2137320" cy="407880"/>
                <a:chOff x="3849840" y="1565280"/>
                <a:chExt cx="2137320" cy="40788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427752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84984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705200" y="156528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13144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559120" y="15652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3849840" y="2785320"/>
                <a:ext cx="2137320" cy="407880"/>
                <a:chOff x="3849840" y="2785320"/>
                <a:chExt cx="2137320" cy="40788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4277520" y="278532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705200" y="278532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849840" y="27853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131440" y="27853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559120" y="278532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3" name=""/>
            <p:cNvGrpSpPr/>
            <p:nvPr/>
          </p:nvGrpSpPr>
          <p:grpSpPr>
            <a:xfrm>
              <a:off x="4376520" y="2171880"/>
              <a:ext cx="536760" cy="1252800"/>
              <a:chOff x="4376520" y="2171880"/>
              <a:chExt cx="536760" cy="1252800"/>
            </a:xfrm>
          </p:grpSpPr>
          <p:sp>
            <p:nvSpPr>
              <p:cNvPr id="704" name=""/>
              <p:cNvSpPr/>
              <p:nvPr/>
            </p:nvSpPr>
            <p:spPr>
              <a:xfrm flipV="1">
                <a:off x="4495320" y="3007440"/>
                <a:ext cx="0" cy="41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4487760" y="2193120"/>
                <a:ext cx="0" cy="38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489920" y="2171880"/>
                <a:ext cx="423360" cy="41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4526280" y="2589120"/>
                <a:ext cx="37404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376520" y="279180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9" name=""/>
          <p:cNvGrpSpPr/>
          <p:nvPr/>
        </p:nvGrpSpPr>
        <p:grpSpPr>
          <a:xfrm>
            <a:off x="1004760" y="1584360"/>
            <a:ext cx="2138040" cy="2036520"/>
            <a:chOff x="1004760" y="1584360"/>
            <a:chExt cx="2138040" cy="2036520"/>
          </a:xfrm>
        </p:grpSpPr>
        <p:grpSp>
          <p:nvGrpSpPr>
            <p:cNvPr id="710" name=""/>
            <p:cNvGrpSpPr/>
            <p:nvPr/>
          </p:nvGrpSpPr>
          <p:grpSpPr>
            <a:xfrm>
              <a:off x="1004760" y="1584360"/>
              <a:ext cx="2138040" cy="2036520"/>
              <a:chOff x="1004760" y="1584360"/>
              <a:chExt cx="2138040" cy="203652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1004760" y="2400840"/>
                <a:ext cx="2138040" cy="406800"/>
                <a:chOff x="1004760" y="2400840"/>
                <a:chExt cx="2138040" cy="40680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432440" y="2400840"/>
                  <a:ext cx="427680" cy="406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860480" y="2400840"/>
                  <a:ext cx="426240" cy="406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286720" y="2400840"/>
                  <a:ext cx="42768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004760" y="2400840"/>
                  <a:ext cx="42768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714760" y="2400840"/>
                  <a:ext cx="42804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1004760" y="1992240"/>
                <a:ext cx="2138040" cy="408240"/>
                <a:chOff x="1004760" y="1992240"/>
                <a:chExt cx="2138040" cy="4082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1432440" y="199224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860480" y="199224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2286720" y="19922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004760" y="19922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714760" y="19922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1004760" y="3212640"/>
                <a:ext cx="2138040" cy="408240"/>
                <a:chOff x="1004760" y="3212640"/>
                <a:chExt cx="2138040" cy="40824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100476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43244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860480" y="321264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228672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714760" y="32126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1004760" y="1584360"/>
                <a:ext cx="2138040" cy="407880"/>
                <a:chOff x="1004760" y="1584360"/>
                <a:chExt cx="2138040" cy="4078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143244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00476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860480" y="158436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28672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714760" y="158436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1004760" y="2804760"/>
                <a:ext cx="2138040" cy="407880"/>
                <a:chOff x="1004760" y="2804760"/>
                <a:chExt cx="2138040" cy="4078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1432440" y="280476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860480" y="280476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004760" y="28047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2286720" y="28047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2714760" y="280476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1" name=""/>
            <p:cNvGrpSpPr/>
            <p:nvPr/>
          </p:nvGrpSpPr>
          <p:grpSpPr>
            <a:xfrm>
              <a:off x="1645200" y="1743840"/>
              <a:ext cx="418680" cy="1734840"/>
              <a:chOff x="1645200" y="1743840"/>
              <a:chExt cx="418680" cy="1734840"/>
            </a:xfrm>
          </p:grpSpPr>
          <p:sp>
            <p:nvSpPr>
              <p:cNvPr id="742" name=""/>
              <p:cNvSpPr/>
              <p:nvPr/>
            </p:nvSpPr>
            <p:spPr>
              <a:xfrm flipV="1">
                <a:off x="1650960" y="3060360"/>
                <a:ext cx="0" cy="4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1650960" y="262476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1645200" y="217872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1645200" y="1743840"/>
                <a:ext cx="0" cy="4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2063880" y="261360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 flipV="1">
                <a:off x="1668240" y="2206800"/>
                <a:ext cx="37692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8" name=""/>
          <p:cNvGrpSpPr/>
          <p:nvPr/>
        </p:nvGrpSpPr>
        <p:grpSpPr>
          <a:xfrm>
            <a:off x="1004760" y="4400640"/>
            <a:ext cx="2138040" cy="2036160"/>
            <a:chOff x="1004760" y="4400640"/>
            <a:chExt cx="2138040" cy="2036160"/>
          </a:xfrm>
        </p:grpSpPr>
        <p:grpSp>
          <p:nvGrpSpPr>
            <p:cNvPr id="749" name=""/>
            <p:cNvGrpSpPr/>
            <p:nvPr/>
          </p:nvGrpSpPr>
          <p:grpSpPr>
            <a:xfrm>
              <a:off x="1004760" y="4400640"/>
              <a:ext cx="2138040" cy="2036160"/>
              <a:chOff x="1004760" y="4400640"/>
              <a:chExt cx="2138040" cy="203616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1004760" y="5216760"/>
                <a:ext cx="2138040" cy="406440"/>
                <a:chOff x="1004760" y="5216760"/>
                <a:chExt cx="2138040" cy="40644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1432440" y="521676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860480" y="5216760"/>
                  <a:ext cx="4262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228672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00476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2714760" y="521676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1004760" y="4808520"/>
                <a:ext cx="2138040" cy="408240"/>
                <a:chOff x="1004760" y="4808520"/>
                <a:chExt cx="2138040" cy="4082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1432440" y="480852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860480" y="480852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28672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00476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714760" y="480852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1004760" y="6028560"/>
                <a:ext cx="2138040" cy="408240"/>
                <a:chOff x="1004760" y="6028560"/>
                <a:chExt cx="2138040" cy="40824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100476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43244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860480" y="602856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28672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714760" y="602856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1004760" y="4400640"/>
                <a:ext cx="2138040" cy="407880"/>
                <a:chOff x="1004760" y="4400640"/>
                <a:chExt cx="2138040" cy="40788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143244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00476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860480" y="440064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28672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714760" y="440064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1004760" y="5620680"/>
                <a:ext cx="2138040" cy="407880"/>
                <a:chOff x="1004760" y="5620680"/>
                <a:chExt cx="2138040" cy="40788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1432440" y="562068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860480" y="562068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00476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228672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2714760" y="56206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1644840" y="5006160"/>
              <a:ext cx="425160" cy="1253880"/>
              <a:chOff x="1644840" y="5006160"/>
              <a:chExt cx="425160" cy="1253880"/>
            </a:xfrm>
          </p:grpSpPr>
          <p:sp>
            <p:nvSpPr>
              <p:cNvPr id="781" name=""/>
              <p:cNvSpPr/>
              <p:nvPr/>
            </p:nvSpPr>
            <p:spPr>
              <a:xfrm flipV="1">
                <a:off x="1650600" y="584208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1650600" y="544140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644840" y="5006160"/>
                <a:ext cx="425160" cy="41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1680480" y="5424120"/>
                <a:ext cx="37728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1650600" y="5022720"/>
                <a:ext cx="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6" name=""/>
          <p:cNvGrpSpPr/>
          <p:nvPr/>
        </p:nvGrpSpPr>
        <p:grpSpPr>
          <a:xfrm>
            <a:off x="3849840" y="4400640"/>
            <a:ext cx="2137680" cy="2036160"/>
            <a:chOff x="3849840" y="4400640"/>
            <a:chExt cx="2137680" cy="2036160"/>
          </a:xfrm>
        </p:grpSpPr>
        <p:grpSp>
          <p:nvGrpSpPr>
            <p:cNvPr id="787" name=""/>
            <p:cNvGrpSpPr/>
            <p:nvPr/>
          </p:nvGrpSpPr>
          <p:grpSpPr>
            <a:xfrm>
              <a:off x="3849840" y="4400640"/>
              <a:ext cx="2137680" cy="2036160"/>
              <a:chOff x="3849840" y="4400640"/>
              <a:chExt cx="2137680" cy="203616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3849840" y="5216760"/>
                <a:ext cx="2137680" cy="406440"/>
                <a:chOff x="3849840" y="5216760"/>
                <a:chExt cx="2137680" cy="40644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4277520" y="521676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705560" y="5216760"/>
                  <a:ext cx="4258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131800" y="5216760"/>
                  <a:ext cx="4280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3849840" y="521676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5984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3849840" y="4808880"/>
                <a:ext cx="2137680" cy="407880"/>
                <a:chOff x="3849840" y="4808880"/>
                <a:chExt cx="2137680" cy="40788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4277520" y="48088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705560" y="4808880"/>
                  <a:ext cx="4258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131800" y="4808880"/>
                  <a:ext cx="42804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3849840" y="480888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559840" y="48088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3849840" y="6028920"/>
                <a:ext cx="2137680" cy="407880"/>
                <a:chOff x="3849840" y="6028920"/>
                <a:chExt cx="2137680" cy="40788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3849840" y="602892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277520" y="6028920"/>
                  <a:ext cx="42804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705560" y="6028920"/>
                  <a:ext cx="4258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131800" y="602892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559840" y="60289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3849840" y="4400640"/>
                <a:ext cx="2137680" cy="408240"/>
                <a:chOff x="3849840" y="4400640"/>
                <a:chExt cx="2137680" cy="40824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4277520" y="4400640"/>
                  <a:ext cx="42804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3849840" y="440064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4705560" y="4400640"/>
                  <a:ext cx="4258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131800" y="44006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559840" y="4400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3849840" y="5620680"/>
                <a:ext cx="2137680" cy="408240"/>
                <a:chOff x="3849840" y="5620680"/>
                <a:chExt cx="2137680" cy="40824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4277520" y="562068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705560" y="5620680"/>
                  <a:ext cx="4258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849840" y="562068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131800" y="5620680"/>
                  <a:ext cx="42804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59840" y="562068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8" name=""/>
            <p:cNvSpPr/>
            <p:nvPr/>
          </p:nvSpPr>
          <p:spPr>
            <a:xfrm>
              <a:off x="4336920" y="443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6694560" y="4400640"/>
            <a:ext cx="2136240" cy="2036160"/>
            <a:chOff x="6694560" y="4400640"/>
            <a:chExt cx="2136240" cy="2036160"/>
          </a:xfrm>
        </p:grpSpPr>
        <p:grpSp>
          <p:nvGrpSpPr>
            <p:cNvPr id="820" name=""/>
            <p:cNvGrpSpPr/>
            <p:nvPr/>
          </p:nvGrpSpPr>
          <p:grpSpPr>
            <a:xfrm>
              <a:off x="6694560" y="4400640"/>
              <a:ext cx="2136240" cy="2036160"/>
              <a:chOff x="6694560" y="4400640"/>
              <a:chExt cx="2136240" cy="2036160"/>
            </a:xfrm>
          </p:grpSpPr>
          <p:grpSp>
            <p:nvGrpSpPr>
              <p:cNvPr id="821" name=""/>
              <p:cNvGrpSpPr/>
              <p:nvPr/>
            </p:nvGrpSpPr>
            <p:grpSpPr>
              <a:xfrm>
                <a:off x="6694560" y="5216760"/>
                <a:ext cx="2136240" cy="406440"/>
                <a:chOff x="6694560" y="5216760"/>
                <a:chExt cx="2136240" cy="40644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7121880" y="5216760"/>
                  <a:ext cx="42732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7549560" y="5216760"/>
                  <a:ext cx="4258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7975440" y="5216760"/>
                  <a:ext cx="42732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94560" y="5216760"/>
                  <a:ext cx="42732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840312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6694560" y="4808520"/>
                <a:ext cx="2136240" cy="408240"/>
                <a:chOff x="6694560" y="4808520"/>
                <a:chExt cx="2136240" cy="40824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7121880" y="4808520"/>
                  <a:ext cx="42732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7549560" y="4808520"/>
                  <a:ext cx="4258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7975440" y="480852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694560" y="480852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40312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3" name=""/>
              <p:cNvGrpSpPr/>
              <p:nvPr/>
            </p:nvGrpSpPr>
            <p:grpSpPr>
              <a:xfrm>
                <a:off x="6694560" y="6028560"/>
                <a:ext cx="2136240" cy="408240"/>
                <a:chOff x="6694560" y="6028560"/>
                <a:chExt cx="2136240" cy="40824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669456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12188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549560" y="6028560"/>
                  <a:ext cx="4258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97544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40312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6694560" y="4400640"/>
                <a:ext cx="2136240" cy="407880"/>
                <a:chOff x="6694560" y="4400640"/>
                <a:chExt cx="2136240" cy="40788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712188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69456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549560" y="4400640"/>
                  <a:ext cx="4258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97544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40312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6694560" y="5620680"/>
                <a:ext cx="2136240" cy="407880"/>
                <a:chOff x="6694560" y="5620680"/>
                <a:chExt cx="2136240" cy="40788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7121880" y="5620680"/>
                  <a:ext cx="42732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7549560" y="5620680"/>
                  <a:ext cx="4258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6694560" y="562068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7975440" y="562068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840312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1" name=""/>
            <p:cNvGrpSpPr/>
            <p:nvPr/>
          </p:nvGrpSpPr>
          <p:grpSpPr>
            <a:xfrm>
              <a:off x="7340400" y="4610880"/>
              <a:ext cx="406080" cy="1649160"/>
              <a:chOff x="7340400" y="4610880"/>
              <a:chExt cx="406080" cy="1649160"/>
            </a:xfrm>
          </p:grpSpPr>
          <p:sp>
            <p:nvSpPr>
              <p:cNvPr id="852" name=""/>
              <p:cNvSpPr/>
              <p:nvPr/>
            </p:nvSpPr>
            <p:spPr>
              <a:xfrm flipV="1">
                <a:off x="7340400" y="584208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7340400" y="544140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7369560" y="5424120"/>
                <a:ext cx="37692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7340400" y="5022720"/>
                <a:ext cx="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7340400" y="461088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7" name=""/>
          <p:cNvSpPr/>
          <p:nvPr/>
        </p:nvSpPr>
        <p:spPr>
          <a:xfrm>
            <a:off x="3833640" y="110844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53640" y="114660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ographic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68400" y="3802320"/>
            <a:ext cx="227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replacing pit by topographic dir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8320" y="3783240"/>
            <a:ext cx="177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rcle-cell neighb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 Lowest neighb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632640" y="3786480"/>
            <a:ext cx="258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circ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pro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54000" y="6105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13:06:54Z</dcterms:created>
  <dc:creator>Ruud van Scheppingen</dc:creator>
  <dc:description/>
  <dc:language>en-US</dc:language>
  <cp:lastModifiedBy>Ingrid Takken</cp:lastModifiedBy>
  <cp:lastPrinted>1999-11-30T16:49:20Z</cp:lastPrinted>
  <dcterms:modified xsi:type="dcterms:W3CDTF">2000-12-21T18:58:47Z</dcterms:modified>
  <cp:revision>246</cp:revision>
  <dc:subject/>
  <dc:title>Geen diatitel</dc:title>
</cp:coreProperties>
</file>