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4B1-E221-4D16-812B-55B17192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92E-75DD-4B81-997F-6A66E865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8FBA-2DED-4BA0-8254-CB400C7B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41E-3668-4E80-B857-E95039BF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AA91-79AB-4EE4-8DDD-7509E433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C232-7530-49F0-BE52-991CB567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2E75-4FDA-4D34-8A46-8844FADF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0F4-C54E-4A69-A2AC-7F4DB4DF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7C98-981E-48B1-90E8-889EA80A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CFC-FC0C-44EE-88DC-24A2CFF7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C2D-7785-47A8-9CFF-4C6E0842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925F-6517-4CCB-BA0F-5D2613AE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4D1A-9E7E-42F0-BDC2-8B3D86CB3B9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43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05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12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19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26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33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40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47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54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61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68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50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75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82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57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64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71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78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85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91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93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98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23T13:15:30Z</dcterms:created>
  <dc:creator>supervisor</dc:creator>
  <dc:description/>
  <dc:language>en-US</dc:language>
  <cp:lastModifiedBy>supervisor</cp:lastModifiedBy>
  <dcterms:modified xsi:type="dcterms:W3CDTF">2022-12-23T14:46:22Z</dcterms:modified>
  <cp:revision>4</cp:revision>
  <dc:subject/>
  <dc:title>PowerPoint Presentation</dc:title>
</cp:coreProperties>
</file>